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71F4-BF76-41D2-989F-BF1C68FD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DE32-523F-44B8-9F09-BF21B2E0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CA56-E1B8-4768-B351-AA38A587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2753-E3BB-47AA-9B23-75442DAD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9E64-53C4-4A11-8FEE-A37346C6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0767-C466-407D-8CA6-44C9FF35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F304-9DFC-4492-86C6-E212A669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3607-D664-4982-A702-FDA1C704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CAA1-DA4D-4549-8CC2-8DD34B68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44A9-8D1B-46B7-86A0-A9AB111E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83F0-5FB9-43E1-B3BF-617FBB7F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67A1-D734-4781-807E-D5415018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92FD-2DBE-479B-BB08-0E0E3FFFC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30240"/>
            <a:ext cx="8077320" cy="66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549360"/>
            <a:ext cx="754380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28560"/>
            <a:ext cx="754380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95480" y="0"/>
            <a:ext cx="515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488880"/>
            <a:ext cx="739116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14:20:40Z</dcterms:created>
  <dc:creator>Patrick J. Mooney</dc:creator>
  <dc:description/>
  <dc:language>en-US</dc:language>
  <cp:lastModifiedBy>Patrick J. Mooney</cp:lastModifiedBy>
  <dcterms:modified xsi:type="dcterms:W3CDTF">2011-08-30T14:27:08Z</dcterms:modified>
  <cp:revision>3</cp:revision>
  <dc:subject/>
  <dc:title>Slide 1</dc:title>
</cp:coreProperties>
</file>